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6F14-19F1-456B-8139-5C6B90EA93B0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F550-33A4-4B47-A0D3-438CB24C95A6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0B4-A2EB-482B-809B-5451EEEE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3F4-A6AE-46E8-B38D-FD8B4284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D26-7785-40AC-8849-8841E65D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777-E208-46C5-825C-D87122F3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2065-D048-4E57-A93A-71598B51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433D-4EEE-4ABD-A6BE-AF5E2F50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E0C9-DA70-4625-9FD5-36BE5385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29B3-CF08-4BC9-92AB-C1AAEECF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AC9E-041A-4846-AD29-E0739E8B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69B6-0AC2-469A-BE88-92243361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92B1-03B6-454D-A1F6-F9BA5674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F66-97FC-4A87-A273-7E1CEF29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AF14-C211-4C16-9109-B2692DFF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9008-0F02-46BD-BB5D-811F16E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F11-7817-4E9E-8004-C13022B1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32AD-DC27-4EA3-BB32-DA1FE570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D81A-1750-4D1F-93BC-937F9E7D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095-25B5-469F-AE7B-2EA5C89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510-4094-401A-A95B-B0A90B9A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79A-218D-47DA-90D1-51B966C1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37A-47B8-4AAF-93E6-00903543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E08-D5BE-46F1-9C98-50B13D04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500-E6CC-45D8-93D2-ACCA4A1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726-72EF-4638-B338-FA97B32F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1528-7575-4228-9793-1B3D85BDC9B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501D-728F-4E30-9851-2F08A9FE12F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1866600" y="531720"/>
            <a:ext cx="506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Cs. BIOLÓ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Prof. en BI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BIOTECN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870000" y="5000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Química Biológica”- Blanco A. y Blanco G., Edic. El Ateneo, 9a Edic. Cap 10 (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Química Biológica”-Lehninger A. L., Edic. Omega- 5ª Edic. (2009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 Esencial en metabolismo y Nutrición”- Cursos Crash de Mosby- Autor: Sarah Benyon-Ed. Harcourt Brace- 1°Ed. (199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lamula.pe/media/uploads/789d4548d685473cae57d136b537bf3a.jpg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6240600"/>
          </a:xfrm>
          <a:prstGeom prst="rect">
            <a:avLst/>
          </a:prstGeom>
          <a:ln w="0">
            <a:noFill/>
          </a:ln>
        </p:spPr>
      </p:pic>
      <p:sp>
        <p:nvSpPr>
          <p:cNvPr id="96" name="3 Rectángulo"/>
          <p:cNvSpPr/>
          <p:nvPr/>
        </p:nvSpPr>
        <p:spPr>
          <a:xfrm>
            <a:off x="214200" y="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LIC. CS. BIOLÓGICAS – PROF. BIOLOGÍA – LIC. BIOTECNOLOGÍA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         QCA.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Rectángulo"/>
          <p:cNvSpPr/>
          <p:nvPr/>
        </p:nvSpPr>
        <p:spPr>
          <a:xfrm>
            <a:off x="357120" y="285840"/>
            <a:ext cx="8072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CuadroTexto"/>
          <p:cNvSpPr/>
          <p:nvPr/>
        </p:nvSpPr>
        <p:spPr>
          <a:xfrm>
            <a:off x="0" y="571680"/>
            <a:ext cx="907272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TEMA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mitocondrial. Fosforilación oxidativa. Mitocondrias. Cadena respiratoria.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ocalización. Balance energético. Desacoplantes: proteínas desacopladoras. Inhibidores. Síntesis de ATP. Hipótesis quimiosmótica.</a:t>
            </a:r>
            <a:br>
              <a:rPr sz="1800"/>
            </a:b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Translocasas. Regulación de la fosforilación oxidativa. Oxidasa alternativa en vegetales. Luciferina-lucifer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cloroplástico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Fotofosforilación y fotosíntesis.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Proceso en plantas superiores. Reacciones luminosas. Captación de la energía luminosa. Cloroplastos y pigmentos. Transporte electrónico cíclico y no cícl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íntesis de ATP por fotofosforil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imilitudes entre fosforilación oxidativa y fotofosfori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oncepto unificador de la teoría quimiosmó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Otros organismos fotosintetiz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Otros Sistemas de Transporte de Electrones. </a:t>
            </a:r>
            <a:r>
              <a:rPr b="0" lang="es-AR" sz="1800" spc="-1" strike="noStrike">
                <a:solidFill>
                  <a:srgbClr val="ff0000"/>
                </a:solidFill>
                <a:latin typeface="Calibri"/>
              </a:rPr>
              <a:t>Sistema microsomal de transporte electrónico, Sistema del Citocromo P</a:t>
            </a:r>
            <a:r>
              <a:rPr b="0" lang="es-AR" sz="1800" spc="-1" strike="noStrike" baseline="-25000">
                <a:solidFill>
                  <a:srgbClr val="ff0000"/>
                </a:solidFill>
                <a:latin typeface="Calibr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CuadroTexto"/>
          <p:cNvSpPr/>
          <p:nvPr/>
        </p:nvSpPr>
        <p:spPr>
          <a:xfrm>
            <a:off x="714240" y="1214280"/>
            <a:ext cx="7821720" cy="4909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xisten sistemas de transporte de electrones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stintos de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rticipan en la síntesis d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ticipan en reacciones de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hidroxilaciones y deshidrogenaciones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ticipan enzimas como las denom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oxigena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CuadroTexto"/>
          <p:cNvSpPr/>
          <p:nvPr/>
        </p:nvSpPr>
        <p:spPr>
          <a:xfrm>
            <a:off x="357120" y="0"/>
            <a:ext cx="842976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00000"/>
                </a:solidFill>
                <a:latin typeface="Arial"/>
              </a:rPr>
              <a:t>OTROS SISTE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00000"/>
                </a:solidFill>
                <a:latin typeface="Arial"/>
              </a:rPr>
              <a:t>DE TRANSPORTE DE ELECTR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85840" y="260280"/>
            <a:ext cx="8715240" cy="882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14200" y="1214280"/>
            <a:ext cx="8786880" cy="200052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calización: microsomas (Retículo Endoplásmico),  peroxisomas, mitocond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asociados a l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san 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mo sustrato, consumen 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104" name="Text Box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107" name="Line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No incorporan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111" name="Text Box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MONO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Calibri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116" name="Text Box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Calibri"/>
                </a:rPr>
                <a:t>Incorporan un átomo del O</a:t>
              </a:r>
              <a:r>
                <a:rPr b="1" lang="es-ES" sz="24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119" name="Text Box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00206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21 CuadroTexto"/>
          <p:cNvSpPr/>
          <p:nvPr/>
        </p:nvSpPr>
        <p:spPr>
          <a:xfrm>
            <a:off x="262800" y="321480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Comic Sans MS"/>
              </a:rPr>
              <a:t>Diferenc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5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XIGENASAS:</a:t>
            </a:r>
            <a:br>
              <a:rPr sz="2400"/>
            </a:br>
            <a:r>
              <a:rPr b="1" i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MONOOXIGENASAS </a:t>
            </a:r>
            <a:r>
              <a:rPr b="1" i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(</a:t>
            </a:r>
            <a:r>
              <a:rPr b="1" i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oxigenasas de función mixta</a:t>
            </a:r>
            <a:r>
              <a:rPr b="1" i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unción: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Hidroxil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  +  A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+ 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S-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  +  A  + 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786120" y="20718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39672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 átomo de O se incorpora al sustrato y el otr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856800" y="2349360"/>
            <a:ext cx="25884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340000" y="2421000"/>
            <a:ext cx="30312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-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3357720" y="2928960"/>
            <a:ext cx="327960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H, NADPH, FMN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, FAD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0 CuadroTexto"/>
          <p:cNvSpPr/>
          <p:nvPr/>
        </p:nvSpPr>
        <p:spPr>
          <a:xfrm>
            <a:off x="3339000" y="21430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mon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2"/>
          <p:cNvGrpSpPr/>
          <p:nvPr/>
        </p:nvGrpSpPr>
        <p:grpSpPr>
          <a:xfrm>
            <a:off x="714240" y="1928880"/>
            <a:ext cx="8264160" cy="2132280"/>
            <a:chOff x="714240" y="1928880"/>
            <a:chExt cx="8264160" cy="2132280"/>
          </a:xfrm>
        </p:grpSpPr>
        <p:sp>
          <p:nvSpPr>
            <p:cNvPr id="133" name="Text Box 13"/>
            <p:cNvSpPr/>
            <p:nvPr/>
          </p:nvSpPr>
          <p:spPr>
            <a:xfrm>
              <a:off x="714240" y="2286000"/>
              <a:ext cx="3348360" cy="86256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Sistemas 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CITOCROMO P-4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 flipV="1">
              <a:off x="4301280" y="2358720"/>
              <a:ext cx="7167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4380480" y="2862000"/>
              <a:ext cx="79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4380480" y="3151080"/>
              <a:ext cx="71856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>
              <a:off x="5071320" y="3357360"/>
              <a:ext cx="390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2000" spc="-1" strike="noStrike">
                  <a:solidFill>
                    <a:srgbClr val="0000ff"/>
                  </a:solidFill>
                  <a:latin typeface="Calibri"/>
                </a:rPr>
                <a:t> de esteroides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(mitocondrias-cort.adrenal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9"/>
            <p:cNvSpPr/>
            <p:nvPr/>
          </p:nvSpPr>
          <p:spPr>
            <a:xfrm>
              <a:off x="5094000" y="2643120"/>
              <a:ext cx="319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2000" spc="-1" strike="noStrike">
                  <a:solidFill>
                    <a:srgbClr val="0000ff"/>
                  </a:solidFill>
                  <a:latin typeface="Calibri"/>
                </a:rPr>
                <a:t> de fármacos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(RE-hígad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0"/>
            <p:cNvSpPr/>
            <p:nvPr/>
          </p:nvSpPr>
          <p:spPr>
            <a:xfrm>
              <a:off x="5000760" y="1928880"/>
              <a:ext cx="362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2000" spc="-1" strike="noStrike">
                  <a:solidFill>
                    <a:srgbClr val="0000ff"/>
                  </a:solidFill>
                  <a:latin typeface="Calibri"/>
                </a:rPr>
                <a:t> de xenobióticos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(RE-hígad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21"/>
          <p:cNvSpPr/>
          <p:nvPr/>
        </p:nvSpPr>
        <p:spPr>
          <a:xfrm>
            <a:off x="684360" y="4786200"/>
            <a:ext cx="2592360" cy="82296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istem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CITOCROMO b</a:t>
            </a:r>
            <a:r>
              <a:rPr b="1" lang="es-ES" sz="1800" spc="-1" strike="noStrike" baseline="-25000">
                <a:solidFill>
                  <a:srgbClr val="c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3348000" y="52149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4538520" y="4987800"/>
            <a:ext cx="41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Deshidrogenación (desatur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cc"/>
                </a:solidFill>
                <a:latin typeface="Calibri"/>
              </a:rPr>
              <a:t>de ácidos graso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RE-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42884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Otros Sistemas de Transporte Electrónico </a:t>
            </a:r>
            <a:br>
              <a:rPr sz="2800"/>
            </a:b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- del Retículo Endoplásmico (RE)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microsomas)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e Mitocondr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istema de Transporte Electrónico del Retículo Endoplásmico</a:t>
            </a:r>
            <a:br>
              <a:rPr sz="2400"/>
            </a:br>
            <a:r>
              <a:rPr b="1" lang="es-AR" sz="2200" spc="-1" strike="noStrike">
                <a:solidFill>
                  <a:srgbClr val="002060"/>
                </a:solidFill>
                <a:latin typeface="Calibri"/>
              </a:rPr>
              <a:t>NADPH- </a:t>
            </a:r>
            <a:r>
              <a:rPr b="1" i="1" lang="es-AR" sz="2200" spc="-1" strike="noStrike">
                <a:solidFill>
                  <a:srgbClr val="002060"/>
                </a:solidFill>
                <a:latin typeface="Calibri"/>
              </a:rPr>
              <a:t>Citocromo P-450 reductasa  </a:t>
            </a:r>
            <a:r>
              <a:rPr b="1" i="1" lang="es-AR" sz="2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s-AR" sz="2200" spc="-1" strike="noStrike">
                <a:solidFill>
                  <a:srgbClr val="c00000"/>
                </a:solidFill>
                <a:latin typeface="Calibri"/>
              </a:rPr>
              <a:t> Citocromo P-450 </a:t>
            </a:r>
            <a:br>
              <a:rPr sz="2200"/>
            </a:b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Función hidroxil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26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37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38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</a:t>
            </a:r>
            <a:r>
              <a:rPr b="1" lang="es-ES" sz="1800" spc="-1" strike="noStrike" baseline="30000">
                <a:solidFill>
                  <a:srgbClr val="f42b0a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forma 28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ínea 29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forma 30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adro de texto 31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adro de texto 32"/>
          <p:cNvSpPr/>
          <p:nvPr/>
        </p:nvSpPr>
        <p:spPr>
          <a:xfrm>
            <a:off x="1558800" y="27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(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33"/>
          <p:cNvSpPr/>
          <p:nvPr/>
        </p:nvSpPr>
        <p:spPr>
          <a:xfrm>
            <a:off x="1259280" y="2023920"/>
            <a:ext cx="13816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 de texto 34"/>
          <p:cNvSpPr/>
          <p:nvPr/>
        </p:nvSpPr>
        <p:spPr>
          <a:xfrm>
            <a:off x="5054400" y="2095560"/>
            <a:ext cx="27547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hidroxi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 de texto 35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 de texto 36"/>
          <p:cNvSpPr/>
          <p:nvPr/>
        </p:nvSpPr>
        <p:spPr>
          <a:xfrm>
            <a:off x="4200480" y="148428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e 43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NADPH-Citocr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F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ipse 45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Citocromo P-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He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46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47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48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0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 de texto 49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adro de texto 39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N-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adro de texto 40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FMN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41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uadro de texto 42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forma 63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forma 64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o 67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170" name="Autoforma 65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forma 66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forma 69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forma 70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forma 71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CuadroTexto"/>
          <p:cNvSpPr/>
          <p:nvPr/>
        </p:nvSpPr>
        <p:spPr>
          <a:xfrm>
            <a:off x="192240" y="3252960"/>
            <a:ext cx="87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hidroxilación de sustancias extrañas, aumenta su polaridad y solubilidad en agua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facilita su eli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nula su toxicidad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umenta su metabolismo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on excretadas con la o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Mecanismos de desintoxicación (hígado)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 Rectángulo"/>
          <p:cNvSpPr/>
          <p:nvPr/>
        </p:nvSpPr>
        <p:spPr>
          <a:xfrm>
            <a:off x="826920" y="1989000"/>
            <a:ext cx="649440" cy="56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5257800" cy="4608360"/>
          </a:xfrm>
          <a:prstGeom prst="rect">
            <a:avLst/>
          </a:prstGeom>
          <a:ln w="0">
            <a:noFill/>
          </a:ln>
        </p:spPr>
      </p:pic>
      <p:sp>
        <p:nvSpPr>
          <p:cNvPr id="178" name="5 CuadroTexto"/>
          <p:cNvSpPr/>
          <p:nvPr/>
        </p:nvSpPr>
        <p:spPr>
          <a:xfrm>
            <a:off x="6948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CuadroTexto"/>
          <p:cNvSpPr/>
          <p:nvPr/>
        </p:nvSpPr>
        <p:spPr>
          <a:xfrm>
            <a:off x="1857240" y="442908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os sistemas de </a:t>
            </a:r>
            <a:r>
              <a:rPr b="1" lang="es-MX" sz="2000" spc="-1" strike="noStrike">
                <a:solidFill>
                  <a:srgbClr val="c00000"/>
                </a:solidFill>
                <a:latin typeface="Comic Sans MS"/>
              </a:rPr>
              <a:t>Cit P- 450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participan en reacciones de oxigenación-hidroxilación, desulfuración, desa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5968"/>
                </a:solidFill>
                <a:latin typeface="Comic Sans MS"/>
              </a:rPr>
              <a:t>activas en el hí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on enzimas induc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0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 CuadroTexto"/>
          <p:cNvSpPr/>
          <p:nvPr/>
        </p:nvSpPr>
        <p:spPr>
          <a:xfrm>
            <a:off x="395280" y="0"/>
            <a:ext cx="835344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METABOLISMO de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Inductores: </a:t>
            </a:r>
            <a:r>
              <a:rPr b="1" lang="es-MX" sz="2400" spc="-1" strike="noStrike">
                <a:solidFill>
                  <a:srgbClr val="c00000"/>
                </a:solidFill>
                <a:latin typeface="Calibri"/>
                <a:ea typeface="Calibri"/>
              </a:rPr>
              <a:t>XENOBIÓTICOS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Calibri"/>
              </a:rPr>
              <a:t>(del griego, xenos, extraño)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Calibri"/>
              </a:rPr>
              <a:t>son compuestos ajenos al organismo, muchas veces noc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Calibri"/>
              </a:rPr>
              <a:t>Ejemplos: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fármacos, conservantes/aditivos de alimentos, carbón del asado, humo del tabac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El Sistema del</a:t>
            </a:r>
            <a:r>
              <a:rPr b="1" lang="es-MX" sz="2400" spc="-1" strike="noStrike">
                <a:solidFill>
                  <a:srgbClr val="c00000"/>
                </a:solidFill>
                <a:latin typeface="Calibri"/>
                <a:ea typeface="Calibri"/>
              </a:rPr>
              <a:t> Cit P-450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es</a:t>
            </a:r>
            <a:r>
              <a:rPr b="1" lang="es-MX" sz="24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inducible y se activa en presencia de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IMPORTANCIA EN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EL HÍGADO ES EL PRINCIPAL ÓRGANO DONDE SE LLEVA A CABO LA METABOLIZACIÓN (DESTOXIFICACIÓN ó DESINTOXICACIÓN) DE LOS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Su estudio per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-la comprensión racional de la farmacología/toxicología            -líneas de investigación sobre cá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22:03:54Z</dcterms:created>
  <dc:creator>ali y facu</dc:creator>
  <dc:description/>
  <dc:language>en-US</dc:language>
  <cp:lastModifiedBy>ali y facu</cp:lastModifiedBy>
  <dcterms:modified xsi:type="dcterms:W3CDTF">2018-03-31T04:41:56Z</dcterms:modified>
  <cp:revision>40</cp:revision>
  <dc:subject/>
  <dc:title>QUÍMICA BIOLÓGICA</dc:title>
</cp:coreProperties>
</file>